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2.jpeg" ContentType="image/jpeg"/>
  <Override PartName="/ppt/media/image37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8A1-FC7D-411A-8810-F678153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5F9-4405-49AB-BF1E-0D1AE48F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6E7-DE9D-403F-9295-AF279748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04C-6824-4E5F-8B5A-4C629512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AE68-87D8-4050-A9D9-540136C4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D5C7-7553-4AD8-A0C0-E9CC1E91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D137-1F92-44C4-B978-D2343D6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01A-0E9C-4A34-9C0C-01FF40C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B04-A0E9-43C0-8F53-48F7B14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118F-ECA1-444B-8D5A-C028571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5B39-6B64-4A53-B843-BECCFE2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99-B474-4D92-BD6A-E490857A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61ED-8FFA-413A-AA4D-A0F5C75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ED3-45F2-46C7-AA47-867C6D1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B94E-7DF4-4059-8D87-74D9FFF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844-4D63-4FE9-9452-9642C4F9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3CAC-2212-43FF-A8BE-0ECA6928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5E8-B3F3-4571-AF51-AB940E7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DAB-0ED9-46E1-96A2-B38C4A3B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DE5-BC03-4E52-98B5-203594B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C14-9A1B-4468-9460-9D9A93C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A2F-6142-424E-94B0-BEB24E4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6C7-D102-469E-BAE6-29150C4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542-B3A3-44A3-85C6-F2AB854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BC49-18CA-40AE-B5CF-ECFAF408C9DF}" type="slidenum"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79F3-6FF3-4E94-9F2A-DC9DCD128258}" type="slidenum"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file:///tmp/home/.config/libreoffice/4/user/gallery/MS900074339%5B1%5D.wav" TargetMode="External"/><Relationship Id="rId6" Type="http://schemas.microsoft.com/office/2007/relationships/media" Target="file:///tmp/home/.config/libreoffice/4/user/gallery/MS900074339%5B1%5D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file:///tmp/home/.config/libreoffice/4/user/gallery/MS900074923%5B1%5D.wav" TargetMode="External"/><Relationship Id="rId9" Type="http://schemas.microsoft.com/office/2007/relationships/media" Target="file:///tmp/home/.config/libreoffice/4/user/gallery/MS900074923%5B1%5D.wav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file:///tmp/home/.config/libreoffice/4/user/gallery/MS900075046%5B1%5D.wav" TargetMode="External"/><Relationship Id="rId8" Type="http://schemas.microsoft.com/office/2007/relationships/media" Target="file:///tmp/home/.config/libreoffice/4/user/gallery/MS900075046%5B1%5D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audio" Target="file:///tmp/home/.config/libreoffice/4/user/gallery/MS900097488%5B1%5D.wav" TargetMode="External"/><Relationship Id="rId8" Type="http://schemas.microsoft.com/office/2007/relationships/media" Target="file:///tmp/home/.config/libreoffice/4/user/gallery/MS900097488%5B1%5D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6782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Comic Sans MS"/>
              </a:rPr>
              <a:t>Las Comidas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6320" y="2819160"/>
            <a:ext cx="6248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or: Carolyn Sistrand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2454120" cy="3449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1160280" cy="2440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143000" y="228600"/>
            <a:ext cx="1273320" cy="243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191120" y="533520"/>
            <a:ext cx="112068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1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el desayuno me gusta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3434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Huevos con patatas fritas, pan blanco tostado y tocino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286000" cy="1393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600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afé con leche y dulce y baj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1828800" cy="1512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335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agel con mantequill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696080" y="2209680"/>
            <a:ext cx="108108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2578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3886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43200" y="4267080"/>
            <a:ext cx="13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24280" y="4876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roissan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6934320" y="4724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4120" y="41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on chispas de chocolate muffi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26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el </a:t>
            </a: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almuerzo me gusta 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a la planch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2667240" cy="1873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97180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mburguesa con queso y papas fritas y un refresco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2438280" cy="183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00520" y="312336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rócoli y sopa de queso cheddar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52280" y="1981080"/>
            <a:ext cx="2667240" cy="177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352680" y="1371600"/>
            <a:ext cx="223848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80680" y="8373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uffalo wrap de pol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324480" y="1523880"/>
            <a:ext cx="2495520" cy="2246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24600" y="388548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ualquier clase de refresc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629400" y="4267080"/>
            <a:ext cx="1941480" cy="1995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013880" y="63237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imonad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9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la cena me gusta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838080"/>
            <a:ext cx="2857320" cy="2190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5920" y="327672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uffalo pollo con ensalad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895480" cy="2705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31520" y="51807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ollo Parm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2514600" cy="1066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880880" y="7614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quesadill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486400" y="4876920"/>
            <a:ext cx="3281400" cy="144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43360" y="449496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El brócoli, la pasta de pol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8600" y="1828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ech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7391520" y="23623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343400" y="3048120"/>
            <a:ext cx="1162080" cy="167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13840" y="25902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De sidra de manzan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40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2971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Merienda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281916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pas frit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09880" cy="1524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27360" y="41140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 manzana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48240" y="2690640"/>
            <a:ext cx="1847520" cy="1476720"/>
            <a:chOff x="3648240" y="2690640"/>
            <a:chExt cx="1847520" cy="1476720"/>
          </a:xfrm>
        </p:grpSpPr>
        <p:sp>
          <p:nvSpPr>
            <p:cNvPr id="205" name=""/>
            <p:cNvSpPr txBox="1"/>
            <p:nvPr/>
          </p:nvSpPr>
          <p:spPr>
            <a:xfrm>
              <a:off x="3648240" y="2690640"/>
              <a:ext cx="1847520" cy="14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286000" cy="1904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9960" y="3123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Naranj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2495520" cy="1952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250680" y="1370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uv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715000" y="190512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31880" y="22089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pa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819520" y="380880"/>
            <a:ext cx="2400120" cy="1476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5680" y="4037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Trix yogur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0" y="4419720"/>
            <a:ext cx="2090880" cy="164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86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666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ostre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lado de chocolate</a:t>
            </a: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1606320" cy="2316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81952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707880" y="1980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dy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981080" y="4800600"/>
            <a:ext cx="2114640" cy="1590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56080" y="649044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stelitos de chocolat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3124080" cy="207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7400" y="342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5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ff00"/>
                </a:solidFill>
                <a:latin typeface="Arial"/>
              </a:rPr>
              <a:t>El fin!</a:t>
            </a:r>
            <a:endParaRPr b="1" lang="en-US" sz="9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300560" cy="286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138480" cy="30384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06Z</dcterms:created>
  <dc:creator>sistrandcar</dc:creator>
  <dc:description/>
  <dc:language>en-US</dc:language>
  <cp:lastModifiedBy>sistrandcar</cp:lastModifiedBy>
  <dcterms:modified xsi:type="dcterms:W3CDTF">2011-04-14T15:05:48Z</dcterms:modified>
  <cp:revision>3</cp:revision>
  <dc:subject/>
  <dc:title>Las Comidas</dc:title>
</cp:coreProperties>
</file>